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4C2B8-EA84-492D-A618-31CE50B7E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BB238-1B2F-40C4-B735-2D4A5615F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F9EB6-3D87-46C7-AC4A-C8ACA115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9023B-A178-495F-9810-94FDD1D65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BFFB-30AB-4672-A9E7-8ADB62EC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B09CB-49EC-41CB-AA02-A25FB33B9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2BD77-3F51-4639-A81E-B5815255E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60DE-C655-479C-8983-818F7FD8D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02B1-8D03-4BFB-BEA7-C6A7FFABE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AAB5-2F2F-461F-9F68-59EDE9D8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288C-027C-4F3F-BEBB-37224452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7A82-D570-4BCE-A106-ED011C62F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351D-FDDC-4B24-B917-ED71E71F30D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02A3-3DC8-4EB6-B78F-607FDA7D6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8201160" cy="77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teragency Working Group on Digital Data (IWGDD)</a:t>
            </a:r>
            <a:endParaRPr b="0" lang="en-US" sz="4400" spc="-1" strike="noStrike">
              <a:solidFill>
                <a:srgbClr val="000000"/>
              </a:solidFill>
              <a:latin typeface="Arial"/>
            </a:endParaRPr>
          </a:p>
        </p:txBody>
      </p:sp>
      <p:sp>
        <p:nvSpPr>
          <p:cNvPr id="42" name=""/>
          <p:cNvSpPr/>
          <p:nvPr/>
        </p:nvSpPr>
        <p:spPr>
          <a:xfrm>
            <a:off x="190440" y="1628640"/>
            <a:ext cx="87822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WGDD represents 23 agencies including: NSF, NASA, DOE, USDA, HHS, Office of Science &amp; Technology Polic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Established by the National Science and Technology Council's Committee on Science in 200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Mi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Develop and promote implementation of strategic plan for the federal government to cultivate an open, interoperable framework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Ensure reliable preservation and effective access to digital data for research, development, and education in science, technology, and engine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IWGDD Activities</a:t>
            </a:r>
            <a:endParaRPr b="0" lang="en-US" sz="4400" spc="-1" strike="noStrike">
              <a:solidFill>
                <a:srgbClr val="000000"/>
              </a:solidFill>
              <a:latin typeface="Arial"/>
            </a:endParaRPr>
          </a:p>
        </p:txBody>
      </p:sp>
      <p:sp>
        <p:nvSpPr>
          <p:cNvPr id="44" name=""/>
          <p:cNvSpPr/>
          <p:nvPr/>
        </p:nvSpPr>
        <p:spPr>
          <a:xfrm>
            <a:off x="306360" y="2028960"/>
            <a:ext cx="86518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Set up a robust public infrastructure so all researchers have a permanent home for their data</a:t>
            </a:r>
            <a:endParaRPr b="0" lang="en-US" sz="2400" spc="-1" strike="noStrike">
              <a:solidFill>
                <a:srgbClr val="000000"/>
              </a:solidFill>
              <a:latin typeface="Arial"/>
            </a:endParaRPr>
          </a:p>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Create a national network of online data repositories, funded by the government and staffed by dedicated computing and archiving professionals </a:t>
            </a:r>
            <a:endParaRPr b="0" lang="en-US" sz="2400" spc="-1" strike="noStrike">
              <a:solidFill>
                <a:srgbClr val="000000"/>
              </a:solidFill>
              <a:latin typeface="Arial"/>
            </a:endParaRPr>
          </a:p>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Develop a strategic plan for the US government concerning the long-term preservation and access to federally funded digital data in support of science and engineering</a:t>
            </a:r>
            <a:endParaRPr b="0" lang="en-US" sz="2400" spc="-1" strike="noStrike">
              <a:solidFill>
                <a:srgbClr val="000000"/>
              </a:solidFill>
              <a:latin typeface="Arial"/>
            </a:endParaRPr>
          </a:p>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Coordinate policy, programs, and budgets among federal agencies and with other se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10909440" cy="886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Cycle Functions </a:t>
            </a:r>
            <a:br>
              <a:rPr sz="2800"/>
            </a:br>
            <a:r>
              <a:rPr b="0" lang="en-US" sz="2800" spc="-1" strike="noStrike">
                <a:solidFill>
                  <a:srgbClr val="000000"/>
                </a:solidFill>
                <a:latin typeface="Arial"/>
              </a:rPr>
              <a:t>for Scientific &amp; Technical Data*</a:t>
            </a:r>
            <a:endParaRPr b="0" lang="en-US" sz="2800" spc="-1" strike="noStrike">
              <a:solidFill>
                <a:srgbClr val="000000"/>
              </a:solidFill>
              <a:latin typeface="Arial"/>
            </a:endParaRPr>
          </a:p>
        </p:txBody>
      </p:sp>
      <p:sp>
        <p:nvSpPr>
          <p:cNvPr id="47" name="PlaceHolder 2"/>
          <p:cNvSpPr>
            <a:spLocks noGrp="1"/>
          </p:cNvSpPr>
          <p:nvPr>
            <p:ph/>
          </p:nvPr>
        </p:nvSpPr>
        <p:spPr>
          <a:xfrm>
            <a:off x="628200" y="1274760"/>
            <a:ext cx="788508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what data needs to be created or collected to support a research agenda or a mission function.</a:t>
            </a:r>
            <a:endParaRPr b="0" lang="en-US" sz="12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y &amp; evaluate existing sources of needed data</a:t>
            </a:r>
            <a:endParaRPr b="0" lang="en-US" sz="9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standards for data &amp; metadata format and qu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actions and responsibilities for managing the data over its lifecyc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or acquire data for intended purpo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 data where it will be kept, managed and accessed for as long as needed to support intended purpos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derived products in support of intended purposes; e.g., data summaries, data aggregations, reports, publication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mp; store data to support intended purposes</a:t>
            </a:r>
            <a:endParaRPr b="0" lang="en-US" sz="12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e updates and additions into existing collections</a:t>
            </a:r>
            <a:endParaRPr b="0" lang="en-US" sz="9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sure the data survives intact for as long as needed</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amp; implement technolog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resh technology to overcome obsolescence and improve performa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 storage &amp; processing capacity as needed</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new technologies to support evolving needs for ingest, processing, analysis, searching &amp; accessing data</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osi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trategy: plan for transferring data to another entity should the current repository no longer be able to keep i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tended purposes are satisfied, determine whether to destroy data or transfer to another organization suited to addressing other needs or opportunities.</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3"/>
          <p:cNvSpPr>
            <a:spLocks noGrp="1"/>
          </p:cNvSpPr>
          <p:nvPr>
            <p:ph/>
          </p:nvPr>
        </p:nvSpPr>
        <p:spPr>
          <a:xfrm>
            <a:off x="760320" y="5829480"/>
            <a:ext cx="7623360" cy="53496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cycle functions are necessarily sequential in any research or other program, but the same body of data may go through multiple cycles as it is used by different entities or for different purpos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90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Functions </a:t>
            </a:r>
            <a:br>
              <a:rPr sz="2400"/>
            </a:br>
            <a:r>
              <a:rPr b="0" lang="en-US" sz="2400" spc="-1" strike="noStrike">
                <a:solidFill>
                  <a:srgbClr val="000000"/>
                </a:solidFill>
                <a:latin typeface="Arial"/>
              </a:rPr>
              <a:t>for Scientific &amp; Technical Data</a:t>
            </a:r>
            <a:endParaRPr b="0" lang="en-US" sz="2400" spc="-1" strike="noStrike">
              <a:solidFill>
                <a:srgbClr val="000000"/>
              </a:solidFill>
              <a:latin typeface="Arial"/>
            </a:endParaRPr>
          </a:p>
        </p:txBody>
      </p:sp>
      <p:sp>
        <p:nvSpPr>
          <p:cNvPr id="50" name="PlaceHolder 2"/>
          <p:cNvSpPr>
            <a:spLocks noGrp="1"/>
          </p:cNvSpPr>
          <p:nvPr>
            <p:ph/>
          </p:nvPr>
        </p:nvSpPr>
        <p:spPr>
          <a:xfrm>
            <a:off x="457200" y="1333080"/>
            <a:ext cx="8229600" cy="52880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standards for data content, form, metadata, quality, frequency of updates, etc.</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maintain metadata</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data history: provenance &amp; lineage, actual data collection and processing (e.g. calibration, geo-referencing, noise reduction)</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nomalies &amp; lacunae</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disposition decisions &amp; actions</a:t>
            </a:r>
            <a:endParaRPr b="0" lang="en-US" sz="12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mp; Implement data architecture, engineering &amp; structures</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 to standards</a:t>
            </a:r>
            <a:endParaRPr b="0" lang="en-US" sz="12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quality control</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y &amp; validate data on ingest</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integrity &amp; validity of any transformations or derived products.</a:t>
            </a:r>
            <a:endParaRPr b="0" lang="en-US" sz="10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access restrictions</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 property rights</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 privacy &amp; confidentiality</a:t>
            </a:r>
            <a:endParaRPr b="0" lang="en-US" sz="10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antee availability to authorized users.</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user roles &amp; privileges.  Qualify individual users</a:t>
            </a:r>
            <a:endParaRPr b="0" lang="en-US" sz="10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antee trustworthiness &amp; authenticity</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 as a trusted repository</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aintain and monitor security of system and assets stored in it.</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s for ensuring and verifying authenticity.</a:t>
            </a:r>
            <a:endParaRPr b="0" lang="en-US" sz="10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data from existing sources</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ue &amp; describe as to content, quality, availability, etc.</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coherent identification of distributed data.</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e information about available data </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diverse uses through appropriate variety of technologies, </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variety of methods of discover, analysis, repurposing, dissemination, presentation</a:t>
            </a:r>
            <a:endParaRPr b="0" lang="en-US" sz="1000" spc="-1" strike="noStrike">
              <a:solidFill>
                <a:srgbClr val="000000"/>
              </a:solidFill>
              <a:latin typeface="Arial"/>
            </a:endParaRPr>
          </a:p>
          <a:p>
            <a:pPr lvl="1" marL="727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
          <p:cNvSpPr/>
          <p:nvPr/>
        </p:nvSpPr>
        <p:spPr>
          <a:xfrm>
            <a:off x="1562040" y="1004760"/>
            <a:ext cx="601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se functions occur across all phases of the data life cyc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6:08:05Z</dcterms:created>
  <dc:creator>Terri</dc:creator>
  <dc:description/>
  <dc:language>en-US</dc:language>
  <cp:lastModifiedBy>Rob Raskin</cp:lastModifiedBy>
  <dcterms:modified xsi:type="dcterms:W3CDTF">2009-01-08T16:17:49Z</dcterms:modified>
  <cp:revision>25</cp:revision>
  <dc:subject/>
  <dc:title>Slide 1</dc:title>
</cp:coreProperties>
</file>